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635-90D7-453D-AF2C-17882F1E0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C6A8-BDA1-4E2E-9103-979B86B1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39D-3F25-410A-8206-6920409BF1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BB5F-DEA8-44BA-9DFC-F50E24F3E2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8E7-6F93-4779-86E6-12FFE634D8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AEA4-93BC-474B-9084-B8E5237E61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8C7-D6A7-4EC0-B7A8-C1C875E9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452-B4B8-4F9E-9DF3-1ACB1BF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FEF-8DA5-40C4-80BF-2B9DF99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705-A34D-4913-BF0D-89E86AEC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6D43-B87E-441B-8B09-58104ECD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8CC8-27B2-4998-A297-47D29DE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1FD8-980B-4AEF-BA5B-5F0C187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ABB8-90ED-474A-899B-2BB8E32A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A13-676D-4B50-A557-8C18127B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864-3C93-4603-890E-2C3812C7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838-D70D-42CC-B9CA-1103895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9BC-7A5D-4E36-AAD8-A10367D3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E69E-068A-4843-9EB7-3F0942E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819-0919-43B1-B090-C101847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21CF-FA51-4622-93AE-0A02076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F1B-BEC4-412E-BED4-1D1C7D5D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3EC6-5883-4998-94AA-3CB1033A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56F-9F9F-4F56-B814-369C5A9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F53-D023-4026-AEA2-52B389C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D16-C331-44F3-AEB3-0A3E1A7C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506-DDD6-42D6-B3C5-1B20C94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70E-E2B7-4281-AC27-160C114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F44-E5BE-4D48-8CD2-0D97F45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C9D-2DF3-4C8E-B960-D8E6865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23C-94EC-41A9-8E63-D75985E915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069-3733-49E0-BF4C-5B62189A79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en.wikipedia.org/wiki/Image:Death_of_Marat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굴림"/>
              </a:rPr>
              <a:t>The Second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Heads Begin to Ro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Part 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 Reign of Terror (Autumn 1793 – Midsummer 1794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Republic is Defend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1793 France is at war with Europe except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irondist General Dumouriez – victor at Valmy – deserts to the ene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oyalists revolt in the Vendee in western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nternal and external wars create a need for action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8634240" y="6172200"/>
            <a:ext cx="509760" cy="457200"/>
          </a:xfrm>
          <a:custGeom>
            <a:avLst/>
            <a:gdLst>
              <a:gd name="textAreaLeft" fmla="*/ 29520 w 509760"/>
              <a:gd name="textAreaRight" fmla="*/ 480240 w 509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81" h="21600">
                <a:moveTo>
                  <a:pt x="0" y="0"/>
                </a:moveTo>
                <a:lnTo>
                  <a:pt x="24081" y="0"/>
                </a:lnTo>
                <a:lnTo>
                  <a:pt x="24081" y="21600"/>
                </a:lnTo>
                <a:lnTo>
                  <a:pt x="0" y="21600"/>
                </a:lnTo>
                <a:close/>
              </a:path>
              <a:path fill="lightenLess" w="24081" h="21600">
                <a:moveTo>
                  <a:pt x="0" y="0"/>
                </a:moveTo>
                <a:lnTo>
                  <a:pt x="24081" y="0"/>
                </a:lnTo>
                <a:lnTo>
                  <a:pt x="22681" y="1400"/>
                </a:lnTo>
                <a:lnTo>
                  <a:pt x="1400" y="1400"/>
                </a:lnTo>
                <a:close/>
              </a:path>
              <a:path fill="darken" w="24081" h="21600">
                <a:moveTo>
                  <a:pt x="24081" y="0"/>
                </a:moveTo>
                <a:lnTo>
                  <a:pt x="24081" y="21600"/>
                </a:lnTo>
                <a:lnTo>
                  <a:pt x="22681" y="20200"/>
                </a:lnTo>
                <a:lnTo>
                  <a:pt x="22681" y="1400"/>
                </a:lnTo>
                <a:close/>
              </a:path>
              <a:path fill="darkenLess" w="24081" h="21600">
                <a:moveTo>
                  <a:pt x="2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1" y="20200"/>
                </a:lnTo>
                <a:close/>
              </a:path>
              <a:path fill="lighten" w="2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vendee"/>
          <p:cNvPicPr/>
          <p:nvPr/>
        </p:nvPicPr>
        <p:blipFill>
          <a:blip r:embed="rId1"/>
          <a:stretch/>
        </p:blipFill>
        <p:spPr>
          <a:xfrm>
            <a:off x="1752480" y="304920"/>
            <a:ext cx="543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Committee of Public Saf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is organization becomes a dictatorship (emergencies need th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Key lead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orge Danton (1759-17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imilien Robspierre (1758-17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azare Carnot (1753-18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Jean Paul Marat (1743-179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anton"/>
          <p:cNvPicPr/>
          <p:nvPr/>
        </p:nvPicPr>
        <p:blipFill>
          <a:blip r:embed="rId1"/>
          <a:stretch/>
        </p:blipFill>
        <p:spPr>
          <a:xfrm>
            <a:off x="228600" y="228600"/>
            <a:ext cx="3524400" cy="398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robespierre"/>
          <p:cNvPicPr/>
          <p:nvPr/>
        </p:nvPicPr>
        <p:blipFill>
          <a:blip r:embed="rId2"/>
          <a:stretch/>
        </p:blipFill>
        <p:spPr>
          <a:xfrm>
            <a:off x="2590920" y="2895480"/>
            <a:ext cx="2581200" cy="326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TNSIL14-C1-09"/>
          <p:cNvPicPr/>
          <p:nvPr/>
        </p:nvPicPr>
        <p:blipFill>
          <a:blip r:embed="rId3"/>
          <a:stretch/>
        </p:blipFill>
        <p:spPr>
          <a:xfrm>
            <a:off x="4419720" y="4572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Marat_Jean_Paul_66"/>
          <p:cNvPicPr/>
          <p:nvPr/>
        </p:nvPicPr>
        <p:blipFill>
          <a:blip r:embed="rId4"/>
          <a:stretch/>
        </p:blipFill>
        <p:spPr>
          <a:xfrm>
            <a:off x="6858000" y="4572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Death of Marat by  (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05440" y="2590920"/>
            <a:ext cx="3238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Challenge was to wage war and gain suppor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levee en mas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velop civic spiri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Republic of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Went too far, though;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christianized Fra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otre Dam Cathedral changed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emple of Rea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orced priests to mar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French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stroy “enemies”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Included leadership of Jacobins by 17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ons during the Reig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etaria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urgeoisi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b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e above support the notion that the revolution was about removing the privileged classes in French societ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The End of the Terr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Robspierre went too f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His own dictat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illed enemies real and imagined, bu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ever gained an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new that forced secularism was too abstract, but attempted to replace it with Cult of the Supreme Be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oon he was arrested and exec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estival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243000"/>
            <a:ext cx="64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lackChancery"/>
              </a:rPr>
              <a:t>A Republican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Republican Calendar"/>
          <p:cNvPicPr/>
          <p:nvPr/>
        </p:nvPicPr>
        <p:blipFill>
          <a:blip r:embed="rId1"/>
          <a:stretch/>
        </p:blipFill>
        <p:spPr>
          <a:xfrm>
            <a:off x="2265480" y="1066680"/>
            <a:ext cx="4744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25884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lackChancery"/>
              </a:rPr>
              <a:t>The New Republican Calen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299120" y="-14792400"/>
          <a:ext cx="4235400" cy="3995640"/>
        </p:xfrm>
        <a:graphic>
          <a:graphicData uri="http://schemas.openxmlformats.org/drawingml/2006/table">
            <a:tbl>
              <a:tblPr/>
              <a:tblGrid>
                <a:gridCol w="1411200"/>
                <a:gridCol w="1412640"/>
                <a:gridCol w="14115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mair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intag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September-21 Octo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mair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o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October-20 Nov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mai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ros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November-20 Dec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o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now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December-19 Janua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vio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ai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January-18 Februa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in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February-20 Mar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mi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ud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March-19 Ap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e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lowe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April-19 M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ri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adow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May-18 Ju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s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rves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June-18 Ju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m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ea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July-17 Augu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uct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rui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August-21 Sept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990720" y="762120"/>
          <a:ext cx="7086600" cy="6095880"/>
        </p:xfrm>
        <a:graphic>
          <a:graphicData uri="http://schemas.openxmlformats.org/drawingml/2006/table">
            <a:tbl>
              <a:tblPr/>
              <a:tblGrid>
                <a:gridCol w="1752480"/>
                <a:gridCol w="1523880"/>
                <a:gridCol w="3810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ec0000"/>
                          </a:solidFill>
                          <a:uFillTx/>
                          <a:latin typeface="Comic Sans MS"/>
                        </a:rPr>
                        <a:t>New 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Time</a:t>
                      </a:r>
                      <a:r>
                        <a:rPr b="1" lang="en-US" sz="2000" spc="-1" strike="noStrike" u="sng">
                          <a:solidFill>
                            <a:srgbClr val="8c0000"/>
                          </a:solidFill>
                          <a:uFillTx/>
                          <a:latin typeface="Comic Sans MS"/>
                        </a:rPr>
                        <a:t> Peri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demai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nt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September 22 – October 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Brumai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October 22 – November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imai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November 21 – December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Niv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n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December 21 – January 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luvi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January 20 – February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t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i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February 19 – March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Ger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ud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March 21 – April 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lore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low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April 20 – May 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rai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ead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May 20 – June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Messi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arv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June 19 – July 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Thermi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e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July 19 – August 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ucti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u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Comic Sans MS"/>
                        </a:rPr>
                        <a:t>August 18 – September 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End of the Monarc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War against Prussia and Austria was going poo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Parisians were growing restless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egislative Assemb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King and family are arrested and imprisoned…a nice prison, th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85800" y="152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A New Republican Calendar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299120" y="-14792400"/>
          <a:ext cx="4235400" cy="3995640"/>
        </p:xfrm>
        <a:graphic>
          <a:graphicData uri="http://schemas.openxmlformats.org/drawingml/2006/table">
            <a:tbl>
              <a:tblPr/>
              <a:tblGrid>
                <a:gridCol w="1411200"/>
                <a:gridCol w="1412640"/>
                <a:gridCol w="14115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mair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intag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September-21 Octo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mair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o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October-20 Nov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mai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ros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November-20 Dec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o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now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December-19 Janua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vio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ai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January-18 Februa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in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February-20 Mar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mi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ud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March-19 Ap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e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lowe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April-19 M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ri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adow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May-18 Ju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s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rves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June-18 Ju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m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ea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July-17 Augu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uctid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rui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August-21 Septe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971800" y="914400"/>
          <a:ext cx="3581280" cy="5724360"/>
        </p:xfrm>
        <a:graphic>
          <a:graphicData uri="http://schemas.openxmlformats.org/drawingml/2006/table">
            <a:tbl>
              <a:tblPr/>
              <a:tblGrid>
                <a:gridCol w="1171440"/>
                <a:gridCol w="240984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2 – 17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3 – 17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4 – 17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5 – 1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6 – 17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V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7 – 17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8 – 17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V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799 – 1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0 – 1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1 – 1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2 – 18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X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3 – 18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X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4 – 1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X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200"/>
                          </a:solidFill>
                          <a:latin typeface="Comic Sans MS"/>
                        </a:rPr>
                        <a:t>1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91"/>
          <p:cNvSpPr/>
          <p:nvPr/>
        </p:nvSpPr>
        <p:spPr>
          <a:xfrm>
            <a:off x="1812960" y="609588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7960"/>
                </a:solidFill>
                <a:latin typeface="Comic Sans MS"/>
              </a:rPr>
              <a:t>The Gregorian System returned in 18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29200" y="82224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lackChancery"/>
              </a:rPr>
              <a:t>The Radical’s Arms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7960"/>
                </a:solidFill>
                <a:latin typeface="Comic Sans MS"/>
              </a:rPr>
              <a:t>No God!</a:t>
            </a:r>
            <a:br>
              <a:rPr sz="3200"/>
            </a:br>
            <a:r>
              <a:rPr b="1" lang="en-US" sz="3200" spc="-1" strike="noStrike">
                <a:solidFill>
                  <a:srgbClr val="be7960"/>
                </a:solidFill>
                <a:latin typeface="Comic Sans MS"/>
              </a:rPr>
              <a:t>No Religion!</a:t>
            </a:r>
            <a:br>
              <a:rPr sz="3200"/>
            </a:br>
            <a:r>
              <a:rPr b="1" lang="en-US" sz="3200" spc="-1" strike="noStrike">
                <a:solidFill>
                  <a:srgbClr val="be7960"/>
                </a:solidFill>
                <a:latin typeface="Comic Sans MS"/>
              </a:rPr>
              <a:t>No King!</a:t>
            </a:r>
            <a:br>
              <a:rPr sz="3200"/>
            </a:br>
            <a:r>
              <a:rPr b="1" lang="en-US" sz="3200" spc="-1" strike="noStrike">
                <a:solidFill>
                  <a:srgbClr val="be7960"/>
                </a:solidFill>
                <a:latin typeface="Comic Sans MS"/>
              </a:rPr>
              <a:t>No Constitutio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No God No Religion No King No Constitution"/>
          <p:cNvPicPr/>
          <p:nvPr/>
        </p:nvPicPr>
        <p:blipFill>
          <a:blip r:embed="rId1">
            <a:lum contrast="6000"/>
          </a:blip>
          <a:srcRect l="1768" t="1266" r="2797" b="1266"/>
          <a:stretch/>
        </p:blipFill>
        <p:spPr>
          <a:xfrm>
            <a:off x="838080" y="457200"/>
            <a:ext cx="4114800" cy="58672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rmidorian Reaction &amp; Establishment of the Directo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July, 17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epeal of Law of 22 Prairial (this is what gave the Committee extra-judicial pow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ans-culottes replaced by bourgeois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is Jacobin Club closed; Girondins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eplaced fully democratic constitution of 1793 with Constitution of Year II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Bicameral legislature (Upper house: Council of Elders; Lower house: Council of 5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ve person executive (the Director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 riot in October of 1795 by the people of a section of Paris was put down by Napoleon with a “whiff of grapesho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rench leadership had finally turned on its people in the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n the end the only group that managed to gain political power were the bourgeois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Economic problems still plagued France, till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Napoleon's whiff of grapeshot"/>
          <p:cNvPicPr/>
          <p:nvPr/>
        </p:nvPicPr>
        <p:blipFill>
          <a:blip r:embed="rId1"/>
          <a:stretch/>
        </p:blipFill>
        <p:spPr>
          <a:xfrm>
            <a:off x="2438280" y="228600"/>
            <a:ext cx="4481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September Massacres (fall 179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is mob goes on a killing sp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anoia grips them; Verdun is threatened by Prussian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Brunswick Manifes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ear of counter-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1,200 people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ny brutally, lik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transport"/>
          <p:cNvPicPr/>
          <p:nvPr/>
        </p:nvPicPr>
        <p:blipFill>
          <a:blip r:embed="rId1"/>
          <a:stretch/>
        </p:blipFill>
        <p:spPr>
          <a:xfrm>
            <a:off x="228600" y="2438280"/>
            <a:ext cx="4200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ncess Mme de Lamball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One of the victims of the September Mass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he w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rip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a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til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er heart was e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lamballepastel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Immediate Results of the Parisian Mo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all for replacing the Legislative Assembly with Convention (National Conven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N.B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states General – National Assembly – Legislative Assembly – National Convention (Republic) - (later) -  Committee of Public Safety – The Direc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Universal male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 new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l this by 21 September 17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day before French forces halt the combined armies of Austria and Prussia at the Battle of Val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dhm044"/>
          <p:cNvPicPr/>
          <p:nvPr/>
        </p:nvPicPr>
        <p:blipFill>
          <a:blip r:embed="rId1"/>
          <a:stretch/>
        </p:blipFill>
        <p:spPr>
          <a:xfrm>
            <a:off x="5486400" y="228600"/>
            <a:ext cx="3429000" cy="288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louis22"/>
          <p:cNvPicPr/>
          <p:nvPr/>
        </p:nvPicPr>
        <p:blipFill>
          <a:blip r:embed="rId2"/>
          <a:stretch/>
        </p:blipFill>
        <p:spPr>
          <a:xfrm>
            <a:off x="0" y="30733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The Sans-Culot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y become the force of radicalism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ithout breech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tisans, shop-keepers, wage earners, and factory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Bitter over the unrestricted use of free-market princi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ngry with the original leaders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lied with Jacob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sansculotte06"/>
          <p:cNvPicPr/>
          <p:nvPr/>
        </p:nvPicPr>
        <p:blipFill>
          <a:blip r:embed="rId1"/>
          <a:stretch/>
        </p:blipFill>
        <p:spPr>
          <a:xfrm>
            <a:off x="5562720" y="685800"/>
            <a:ext cx="338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 Execution of Louis XVI, Citizen Capet (January 21, 179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o create a Republ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acobins seek to exec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irondins seek clemency, as do mod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ouis convicted of conspiring against the liberty of the people and the security of the st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aris mob sees Girondins and moderates as enemies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4" descr="louis20"/>
          <p:cNvPicPr/>
          <p:nvPr/>
        </p:nvPicPr>
        <p:blipFill>
          <a:blip r:embed="rId1"/>
          <a:stretch/>
        </p:blipFill>
        <p:spPr>
          <a:xfrm>
            <a:off x="4419720" y="2133720"/>
            <a:ext cx="47242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굴림"/>
              </a:rPr>
              <a:t>The Terror and the Arrival of Napoleon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French Revolution’s Final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2:51:20Z</dcterms:created>
  <dc:creator>Generic</dc:creator>
  <dc:description/>
  <dc:language>en-US</dc:language>
  <cp:lastModifiedBy>MacAdmin Kis</cp:lastModifiedBy>
  <dcterms:modified xsi:type="dcterms:W3CDTF">2008-10-24T01:30:38Z</dcterms:modified>
  <cp:revision>39</cp:revision>
  <dc:subject/>
  <dc:title>The Second Revolution</dc:title>
</cp:coreProperties>
</file>